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759-873B-468A-8143-C340B51B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A2D-B1AA-4988-91BF-28631F09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556-C5FF-4FA7-93D2-1F1F4805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3E8-94CC-4DA0-A650-849C8754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3643-2670-4054-8788-665FF548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EDA-A046-46EE-B888-7FB665C9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7F2-FE53-482F-B819-A9640831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A14-44D9-49BD-80A7-86E33624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D40-E40D-48B2-B0FA-2723C094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4E8C-670E-491C-B385-5F921DA8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6A1-F83D-4E9B-876D-2D01B51B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420-C4ED-4039-88BF-6DFE3C1C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B795-6322-4D31-ACDF-894A8E711FE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hantom Diame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67280" y="2781360"/>
            <a:ext cx="93492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3068640"/>
            <a:ext cx="14436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3068640"/>
            <a:ext cx="14472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378936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27640" y="342900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0" y="2781360"/>
            <a:ext cx="1512720" cy="1439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360" y="2421000"/>
            <a:ext cx="2087640" cy="21603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/>
          <p:nvPr/>
        </p:nvCxnSpPr>
        <p:spPr>
          <a:xfrm>
            <a:off x="3779640" y="4220640"/>
            <a:ext cx="1080" cy="10803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50" name=""/>
          <p:cNvCxnSpPr/>
          <p:nvPr/>
        </p:nvCxnSpPr>
        <p:spPr>
          <a:xfrm>
            <a:off x="5292360" y="4220640"/>
            <a:ext cx="1080" cy="10803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51" name=""/>
          <p:cNvCxnSpPr/>
          <p:nvPr/>
        </p:nvCxnSpPr>
        <p:spPr>
          <a:xfrm>
            <a:off x="3780000" y="5084280"/>
            <a:ext cx="1513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2" name=""/>
          <p:cNvCxnSpPr/>
          <p:nvPr/>
        </p:nvCxnSpPr>
        <p:spPr>
          <a:xfrm flipH="1">
            <a:off x="3707640" y="5013000"/>
            <a:ext cx="143640" cy="14472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53" name=""/>
          <p:cNvCxnSpPr/>
          <p:nvPr/>
        </p:nvCxnSpPr>
        <p:spPr>
          <a:xfrm flipH="1">
            <a:off x="5219280" y="5013000"/>
            <a:ext cx="144720" cy="14472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4356000" y="5013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84360" y="3213000"/>
                <a:ext cx="2016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l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6" name=""/>
          <p:cNvCxnSpPr>
            <a:endCxn id="48" idx="0"/>
          </p:cNvCxnSpPr>
          <p:nvPr/>
        </p:nvCxnSpPr>
        <p:spPr>
          <a:xfrm flipH="1">
            <a:off x="4536360" y="2420640"/>
            <a:ext cx="2123640" cy="7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57" name=""/>
          <p:cNvCxnSpPr>
            <a:endCxn id="48" idx="4"/>
          </p:cNvCxnSpPr>
          <p:nvPr/>
        </p:nvCxnSpPr>
        <p:spPr>
          <a:xfrm flipH="1">
            <a:off x="4536360" y="4581000"/>
            <a:ext cx="2123640" cy="7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58" name=""/>
          <p:cNvCxnSpPr/>
          <p:nvPr/>
        </p:nvCxnSpPr>
        <p:spPr>
          <a:xfrm flipV="1">
            <a:off x="6516360" y="2420280"/>
            <a:ext cx="1080" cy="216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6516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/>
          <p:nvPr/>
        </p:nvCxnSpPr>
        <p:spPr>
          <a:xfrm flipH="1">
            <a:off x="6442920" y="2349360"/>
            <a:ext cx="143640" cy="14544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61" name=""/>
          <p:cNvCxnSpPr/>
          <p:nvPr/>
        </p:nvCxnSpPr>
        <p:spPr>
          <a:xfrm flipH="1">
            <a:off x="6443280" y="4508280"/>
            <a:ext cx="144720" cy="14472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Arial"/>
              </a:rPr>
              <a:t>View Diameter (</a:t>
            </a:r>
            <a:r>
              <a:rPr b="0" i="1" lang="it-IT" sz="5400" spc="-1" strike="noStrike">
                <a:solidFill>
                  <a:srgbClr val="ffffff"/>
                </a:solidFill>
                <a:latin typeface="Arial"/>
              </a:rPr>
              <a:t>Vd</a:t>
            </a:r>
            <a:r>
              <a:rPr b="0" lang="it-IT" sz="5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65120" y="4187880"/>
            <a:ext cx="93528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2560" y="4475160"/>
            <a:ext cx="14472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41480" y="4475160"/>
            <a:ext cx="14436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25480" y="51958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25480" y="483552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77840" y="4187880"/>
            <a:ext cx="1513080" cy="1439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0560" y="3827520"/>
            <a:ext cx="2087640" cy="21603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/>
          <p:nvPr/>
        </p:nvCxnSpPr>
        <p:spPr>
          <a:xfrm>
            <a:off x="790200" y="4835520"/>
            <a:ext cx="1080" cy="1728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71" name=""/>
          <p:cNvCxnSpPr/>
          <p:nvPr/>
        </p:nvCxnSpPr>
        <p:spPr>
          <a:xfrm>
            <a:off x="2877840" y="4835520"/>
            <a:ext cx="1080" cy="1728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72" name=""/>
          <p:cNvCxnSpPr/>
          <p:nvPr/>
        </p:nvCxnSpPr>
        <p:spPr>
          <a:xfrm>
            <a:off x="790200" y="6490800"/>
            <a:ext cx="20883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3" name=""/>
          <p:cNvCxnSpPr/>
          <p:nvPr/>
        </p:nvCxnSpPr>
        <p:spPr>
          <a:xfrm flipH="1">
            <a:off x="718920" y="6419520"/>
            <a:ext cx="143280" cy="14472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74" name=""/>
          <p:cNvCxnSpPr/>
          <p:nvPr/>
        </p:nvCxnSpPr>
        <p:spPr>
          <a:xfrm flipH="1">
            <a:off x="2806200" y="6419520"/>
            <a:ext cx="145440" cy="14472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sp>
        <p:nvSpPr>
          <p:cNvPr id="75" name=""/>
          <p:cNvSpPr/>
          <p:nvPr/>
        </p:nvSpPr>
        <p:spPr>
          <a:xfrm>
            <a:off x="1582560" y="64911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endCxn id="69" idx="0"/>
          </p:cNvCxnSpPr>
          <p:nvPr/>
        </p:nvCxnSpPr>
        <p:spPr>
          <a:xfrm flipH="1">
            <a:off x="1834560" y="3827160"/>
            <a:ext cx="212292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77" name=""/>
          <p:cNvCxnSpPr>
            <a:endCxn id="69" idx="4"/>
          </p:cNvCxnSpPr>
          <p:nvPr/>
        </p:nvCxnSpPr>
        <p:spPr>
          <a:xfrm flipH="1">
            <a:off x="1834560" y="5987520"/>
            <a:ext cx="212292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78" name=""/>
          <p:cNvCxnSpPr/>
          <p:nvPr/>
        </p:nvCxnSpPr>
        <p:spPr>
          <a:xfrm flipV="1">
            <a:off x="3814560" y="3826800"/>
            <a:ext cx="1080" cy="216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9" name=""/>
          <p:cNvSpPr/>
          <p:nvPr/>
        </p:nvSpPr>
        <p:spPr>
          <a:xfrm>
            <a:off x="378000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/>
          <p:nvPr/>
        </p:nvCxnSpPr>
        <p:spPr>
          <a:xfrm flipH="1">
            <a:off x="3741120" y="3755880"/>
            <a:ext cx="143640" cy="14544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81" name=""/>
          <p:cNvCxnSpPr/>
          <p:nvPr/>
        </p:nvCxnSpPr>
        <p:spPr>
          <a:xfrm flipH="1">
            <a:off x="3741480" y="5914800"/>
            <a:ext cx="144720" cy="14472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95280" y="2421000"/>
                <a:ext cx="25192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r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067280" y="2133720"/>
                <a:ext cx="39592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ewRati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24000" y="1413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metro dell’area processata durante la scan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32000" y="2492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2349360"/>
            <a:ext cx="255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00720" y="44370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empio con V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502320" y="5589720"/>
                <a:ext cx="8920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r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Arial"/>
              </a:rPr>
              <a:t>Scan Diameter (</a:t>
            </a:r>
            <a:r>
              <a:rPr b="0" i="1" lang="it-IT" sz="5400" spc="-1" strike="noStrike">
                <a:solidFill>
                  <a:srgbClr val="ffffff"/>
                </a:solidFill>
                <a:latin typeface="Arial"/>
              </a:rPr>
              <a:t>Sd</a:t>
            </a:r>
            <a:r>
              <a:rPr b="0" lang="it-IT" sz="5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65120" y="4187880"/>
            <a:ext cx="93528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82560" y="4475160"/>
            <a:ext cx="14472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4475160"/>
            <a:ext cx="14436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25480" y="51958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25480" y="483552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7840" y="4187880"/>
            <a:ext cx="1513080" cy="1439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90560" y="3827520"/>
            <a:ext cx="2087640" cy="21603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790200" y="4835520"/>
            <a:ext cx="1080" cy="1728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98" name=""/>
          <p:cNvCxnSpPr/>
          <p:nvPr/>
        </p:nvCxnSpPr>
        <p:spPr>
          <a:xfrm>
            <a:off x="2877840" y="4835520"/>
            <a:ext cx="1080" cy="1728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99" name=""/>
          <p:cNvCxnSpPr/>
          <p:nvPr/>
        </p:nvCxnSpPr>
        <p:spPr>
          <a:xfrm>
            <a:off x="790200" y="6490800"/>
            <a:ext cx="20883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0" name=""/>
          <p:cNvCxnSpPr/>
          <p:nvPr/>
        </p:nvCxnSpPr>
        <p:spPr>
          <a:xfrm flipH="1">
            <a:off x="718920" y="6419520"/>
            <a:ext cx="143280" cy="14472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01" name=""/>
          <p:cNvCxnSpPr/>
          <p:nvPr/>
        </p:nvCxnSpPr>
        <p:spPr>
          <a:xfrm flipH="1">
            <a:off x="2806200" y="6419520"/>
            <a:ext cx="145440" cy="14472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1582560" y="64911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endCxn id="96" idx="0"/>
          </p:cNvCxnSpPr>
          <p:nvPr/>
        </p:nvCxnSpPr>
        <p:spPr>
          <a:xfrm flipH="1">
            <a:off x="1834560" y="3827160"/>
            <a:ext cx="212292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104" name=""/>
          <p:cNvCxnSpPr>
            <a:endCxn id="96" idx="4"/>
          </p:cNvCxnSpPr>
          <p:nvPr/>
        </p:nvCxnSpPr>
        <p:spPr>
          <a:xfrm flipH="1">
            <a:off x="1834560" y="5987520"/>
            <a:ext cx="212292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105" name=""/>
          <p:cNvCxnSpPr/>
          <p:nvPr/>
        </p:nvCxnSpPr>
        <p:spPr>
          <a:xfrm flipV="1">
            <a:off x="3814560" y="3826800"/>
            <a:ext cx="1080" cy="216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378000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 flipH="1">
            <a:off x="3741120" y="3755880"/>
            <a:ext cx="143640" cy="14544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08" name=""/>
          <p:cNvCxnSpPr/>
          <p:nvPr/>
        </p:nvCxnSpPr>
        <p:spPr>
          <a:xfrm flipH="1">
            <a:off x="3741480" y="5914800"/>
            <a:ext cx="144720" cy="14472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72880" y="2492280"/>
                <a:ext cx="28371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V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356000" y="2276640"/>
                <a:ext cx="41036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d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canRati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24000" y="1413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metro entro il quale vengono raccolti i raggi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48000" y="2565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88000" y="2349360"/>
            <a:ext cx="255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48690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empio con S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65760" y="5950080"/>
                <a:ext cx="10652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96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Arial"/>
              </a:rPr>
              <a:t>Focal Lenght (</a:t>
            </a:r>
            <a:r>
              <a:rPr b="0" i="1" lang="it-IT" sz="5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it-IT" sz="5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9280" y="2133720"/>
                <a:ext cx="21178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F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191040" y="2133720"/>
                <a:ext cx="22590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d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f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24000" y="1413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za fra la sorgente dei raggi x e il centro del phan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249228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2349360"/>
            <a:ext cx="255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03640" y="508464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sempio con Fr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133720"/>
            <a:ext cx="367200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al Lenght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4149720"/>
            <a:ext cx="93492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47640" y="4437000"/>
            <a:ext cx="14472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4437000"/>
            <a:ext cx="14472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515772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479736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4149720"/>
            <a:ext cx="1513080" cy="1440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3789360"/>
            <a:ext cx="2087640" cy="21607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/>
          <p:nvPr/>
        </p:nvCxnSpPr>
        <p:spPr>
          <a:xfrm flipH="1">
            <a:off x="323640" y="3715920"/>
            <a:ext cx="144720" cy="14472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2" name=""/>
          <p:cNvCxnSpPr/>
          <p:nvPr/>
        </p:nvCxnSpPr>
        <p:spPr>
          <a:xfrm flipH="1">
            <a:off x="323640" y="4797000"/>
            <a:ext cx="144720" cy="14472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324000" y="400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d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394920" y="3789000"/>
            <a:ext cx="1080" cy="108036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5" name=""/>
          <p:cNvCxnSpPr/>
          <p:nvPr/>
        </p:nvCxnSpPr>
        <p:spPr>
          <a:xfrm>
            <a:off x="108000" y="3789000"/>
            <a:ext cx="172944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</a:ln>
        </p:spPr>
      </p:cxnSp>
      <p:cxnSp>
        <p:nvCxnSpPr>
          <p:cNvPr id="136" name=""/>
          <p:cNvCxnSpPr/>
          <p:nvPr/>
        </p:nvCxnSpPr>
        <p:spPr>
          <a:xfrm>
            <a:off x="108000" y="4868640"/>
            <a:ext cx="172944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</a:ln>
        </p:spPr>
      </p:cxnSp>
      <p:cxnSp>
        <p:nvCxnSpPr>
          <p:cNvPr id="137" name=""/>
          <p:cNvCxnSpPr/>
          <p:nvPr/>
        </p:nvCxnSpPr>
        <p:spPr>
          <a:xfrm>
            <a:off x="1834920" y="6165360"/>
            <a:ext cx="216108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sp>
        <p:nvSpPr>
          <p:cNvPr id="138" name=""/>
          <p:cNvSpPr/>
          <p:nvPr/>
        </p:nvSpPr>
        <p:spPr>
          <a:xfrm flipV="1">
            <a:off x="3924360" y="4796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/>
          <p:nvPr/>
        </p:nvCxnSpPr>
        <p:spPr>
          <a:xfrm>
            <a:off x="3995280" y="4868640"/>
            <a:ext cx="1080" cy="143892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</a:ln>
        </p:spPr>
      </p:cxnSp>
      <p:cxnSp>
        <p:nvCxnSpPr>
          <p:cNvPr id="140" name=""/>
          <p:cNvCxnSpPr/>
          <p:nvPr/>
        </p:nvCxnSpPr>
        <p:spPr>
          <a:xfrm>
            <a:off x="1834920" y="4868640"/>
            <a:ext cx="1080" cy="143892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</a:ln>
        </p:spPr>
      </p:cxnSp>
      <p:cxnSp>
        <p:nvCxnSpPr>
          <p:cNvPr id="141" name=""/>
          <p:cNvCxnSpPr/>
          <p:nvPr/>
        </p:nvCxnSpPr>
        <p:spPr>
          <a:xfrm flipH="1">
            <a:off x="1763280" y="6092640"/>
            <a:ext cx="144720" cy="14472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42" name=""/>
          <p:cNvCxnSpPr/>
          <p:nvPr/>
        </p:nvCxnSpPr>
        <p:spPr>
          <a:xfrm flipH="1">
            <a:off x="3924000" y="6092640"/>
            <a:ext cx="144720" cy="14472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2771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067280" y="4149720"/>
            <a:ext cx="504720" cy="647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3645000"/>
            <a:ext cx="15127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rgenteRaggi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348000" y="4869000"/>
            <a:ext cx="6494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276720" y="4869000"/>
            <a:ext cx="720720" cy="288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203280" y="4869000"/>
            <a:ext cx="793800" cy="144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3280" y="4869000"/>
            <a:ext cx="793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203640" y="4724280"/>
            <a:ext cx="792000" cy="144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276720" y="4581000"/>
            <a:ext cx="720720" cy="287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348000" y="4437000"/>
            <a:ext cx="650880" cy="433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651640" y="5950080"/>
                <a:ext cx="12967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r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09:49:09Z</dcterms:created>
  <dc:creator>Stefano &amp; Simone</dc:creator>
  <dc:description/>
  <dc:language>en-US</dc:language>
  <cp:lastModifiedBy>Domenico Caputo</cp:lastModifiedBy>
  <dcterms:modified xsi:type="dcterms:W3CDTF">2006-03-01T11:15:22Z</dcterms:modified>
  <cp:revision>5</cp:revision>
  <dc:subject/>
  <dc:title>Phantom Diameter</dc:title>
</cp:coreProperties>
</file>