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468-E092-4A83-B65D-57E855C7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C8F-4FAD-4F7C-9BFC-B72BEB7C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004-40D9-4C5C-B092-C51CA9AF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D3D-8DD4-46E4-A3EE-472D0A5B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0CB-AE55-4679-928A-52ACD8F8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C96-38BB-4562-AB17-FD752EEA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7B8-05D9-43ED-9BFC-A8C345E0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650-25E0-40CD-93D1-0C5A8B3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7B6-BCDE-4775-B052-0FA69B3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5A7-50F7-4D99-A18E-922C928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144-4AAC-4A20-B54B-61BC5EA5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29E-DF3A-4E95-A1CB-7C8BAA97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7318-4992-4D72-9300-9F9277EBE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metria Parallela (I g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0560" y="2852640"/>
            <a:ext cx="9352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48000" y="3139920"/>
            <a:ext cx="14472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6920" y="3139920"/>
            <a:ext cx="14436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90920" y="3860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9092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2852640"/>
            <a:ext cx="1513080" cy="144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492280"/>
            <a:ext cx="2087280" cy="2160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/>
          <p:nvPr/>
        </p:nvCxnSpPr>
        <p:spPr>
          <a:xfrm flipV="1">
            <a:off x="6516360" y="2492280"/>
            <a:ext cx="1080" cy="21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50" name=""/>
          <p:cNvCxnSpPr/>
          <p:nvPr/>
        </p:nvCxnSpPr>
        <p:spPr>
          <a:xfrm flipV="1">
            <a:off x="2555640" y="2492280"/>
            <a:ext cx="1080" cy="21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51" name=""/>
          <p:cNvSpPr/>
          <p:nvPr/>
        </p:nvSpPr>
        <p:spPr>
          <a:xfrm flipH="1">
            <a:off x="6084720" y="2565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084720" y="285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84720" y="31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84720" y="342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84720" y="371628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84720" y="4005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84720" y="429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8472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587640" y="2349360"/>
            <a:ext cx="792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627280" y="220500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198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84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/>
          <p:nvPr/>
        </p:nvCxnSpPr>
        <p:spPr>
          <a:xfrm>
            <a:off x="755280" y="249192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64" name=""/>
          <p:cNvCxnSpPr/>
          <p:nvPr/>
        </p:nvCxnSpPr>
        <p:spPr>
          <a:xfrm>
            <a:off x="755280" y="465264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65" name=""/>
          <p:cNvCxnSpPr/>
          <p:nvPr/>
        </p:nvCxnSpPr>
        <p:spPr>
          <a:xfrm flipV="1">
            <a:off x="3419280" y="3499560"/>
            <a:ext cx="1080" cy="179964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66" name=""/>
          <p:cNvCxnSpPr/>
          <p:nvPr/>
        </p:nvCxnSpPr>
        <p:spPr>
          <a:xfrm flipV="1">
            <a:off x="5508360" y="3499560"/>
            <a:ext cx="1080" cy="179964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67" name=""/>
          <p:cNvCxnSpPr/>
          <p:nvPr/>
        </p:nvCxnSpPr>
        <p:spPr>
          <a:xfrm flipV="1">
            <a:off x="1042560" y="2492280"/>
            <a:ext cx="2520" cy="21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8" name=""/>
          <p:cNvCxnSpPr/>
          <p:nvPr/>
        </p:nvCxnSpPr>
        <p:spPr>
          <a:xfrm>
            <a:off x="3419280" y="5157360"/>
            <a:ext cx="2089800" cy="1080"/>
          </a:xfrm>
          <a:prstGeom prst="straightConnector1">
            <a:avLst/>
          </a:prstGeom>
          <a:ln w="3240">
            <a:solidFill>
              <a:srgbClr val="ffffff"/>
            </a:solidFill>
            <a:miter/>
          </a:ln>
        </p:spPr>
      </p:cxnSp>
      <p:cxnSp>
        <p:nvCxnSpPr>
          <p:cNvPr id="69" name=""/>
          <p:cNvCxnSpPr/>
          <p:nvPr/>
        </p:nvCxnSpPr>
        <p:spPr>
          <a:xfrm flipV="1">
            <a:off x="971280" y="2420640"/>
            <a:ext cx="144720" cy="14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0" name=""/>
          <p:cNvCxnSpPr/>
          <p:nvPr/>
        </p:nvCxnSpPr>
        <p:spPr>
          <a:xfrm flipV="1">
            <a:off x="971280" y="4581000"/>
            <a:ext cx="144720" cy="14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1" name=""/>
          <p:cNvCxnSpPr/>
          <p:nvPr/>
        </p:nvCxnSpPr>
        <p:spPr>
          <a:xfrm flipV="1">
            <a:off x="5435280" y="5084280"/>
            <a:ext cx="144720" cy="14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2" name=""/>
          <p:cNvCxnSpPr/>
          <p:nvPr/>
        </p:nvCxnSpPr>
        <p:spPr>
          <a:xfrm flipV="1">
            <a:off x="3347640" y="5084280"/>
            <a:ext cx="144720" cy="14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684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021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un’ottima scansione  D = Sd  quindi Vr=S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metria Equilineare (II g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4920" y="3500280"/>
            <a:ext cx="93492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2360" y="378792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90920" y="378792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5280" y="450864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75280" y="414828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3500280"/>
            <a:ext cx="1513080" cy="144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3139920"/>
            <a:ext cx="2087640" cy="2160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5" idx="0"/>
            <a:endCxn id="86" idx="0"/>
          </p:cNvCxnSpPr>
          <p:nvPr/>
        </p:nvCxnSpPr>
        <p:spPr>
          <a:xfrm flipV="1">
            <a:off x="3204720" y="2277360"/>
            <a:ext cx="1080" cy="3886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7" name=""/>
          <p:cNvSpPr/>
          <p:nvPr/>
        </p:nvSpPr>
        <p:spPr>
          <a:xfrm flipH="1" flipV="1">
            <a:off x="3203640" y="2276280"/>
            <a:ext cx="3024000" cy="19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203640" y="3068640"/>
            <a:ext cx="3024000" cy="1154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03640" y="3645000"/>
            <a:ext cx="302400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03640" y="422100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03640" y="4221000"/>
            <a:ext cx="30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03280" y="4221000"/>
            <a:ext cx="3025800" cy="11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203640" y="4221000"/>
            <a:ext cx="302400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300360" y="2997360"/>
            <a:ext cx="86364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2563920"/>
            <a:ext cx="792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220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81080" y="404640"/>
            <a:ext cx="9325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eometria Equiangolare (III, IV e V gen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4920" y="3500280"/>
            <a:ext cx="93492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2360" y="378792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90920" y="378792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75280" y="450864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75280" y="414828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3500280"/>
            <a:ext cx="1513080" cy="144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3139920"/>
            <a:ext cx="2087640" cy="2160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634920" y="2565000"/>
            <a:ext cx="259236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058920" y="2997360"/>
            <a:ext cx="3168360" cy="122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842920" y="3573000"/>
            <a:ext cx="3384360" cy="646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71640" y="422100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42920" y="4221000"/>
            <a:ext cx="3384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059280" y="4221000"/>
            <a:ext cx="31701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634920" y="4221000"/>
            <a:ext cx="259236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300360" y="2997360"/>
            <a:ext cx="86364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2276640"/>
            <a:ext cx="792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1916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70920" y="2543760"/>
            <a:ext cx="2012760" cy="335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42" y="141"/>
                </a:moveTo>
                <a:arcTo wR="10800" hR="10800" stAng="-4842967" swAng="9752327"/>
                <a:lnTo>
                  <a:pt x="10800" y="10800"/>
                </a:lnTo>
                <a:close/>
              </a:path>
              <a:path fill="none" w="21600" h="21600">
                <a:moveTo>
                  <a:pt x="12542" y="141"/>
                </a:moveTo>
                <a:arcTo wR="10800" hR="10800" stAng="-4842967" swAng="9752327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n Beam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3280" y="3500280"/>
            <a:ext cx="93492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378792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2920" y="378792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4508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6920" y="41482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96000" y="3500280"/>
            <a:ext cx="1512720" cy="144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08360" y="3141720"/>
            <a:ext cx="2087640" cy="2160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208720" y="2709720"/>
            <a:ext cx="106200" cy="143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64360" y="4149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0" idx="1"/>
          </p:cNvCxnSpPr>
          <p:nvPr/>
        </p:nvCxnSpPr>
        <p:spPr>
          <a:xfrm>
            <a:off x="4571640" y="2565360"/>
            <a:ext cx="3513960" cy="1605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"/>
          <p:cNvCxnSpPr/>
          <p:nvPr/>
        </p:nvCxnSpPr>
        <p:spPr>
          <a:xfrm>
            <a:off x="4211640" y="4220640"/>
            <a:ext cx="38534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7632720" y="4005360"/>
            <a:ext cx="85680" cy="215640"/>
          </a:xfrm>
          <a:custGeom>
            <a:avLst/>
            <a:gdLst/>
            <a:ahLst/>
            <a:rect l="l" t="t" r="r" b="b"/>
            <a:pathLst>
              <a:path w="54" h="136">
                <a:moveTo>
                  <a:pt x="54" y="0"/>
                </a:moveTo>
                <a:cubicBezTo>
                  <a:pt x="35" y="11"/>
                  <a:pt x="16" y="22"/>
                  <a:pt x="8" y="45"/>
                </a:cubicBezTo>
                <a:cubicBezTo>
                  <a:pt x="0" y="68"/>
                  <a:pt x="8" y="121"/>
                  <a:pt x="8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9928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/>
          <p:nvPr/>
        </p:nvCxnSpPr>
        <p:spPr>
          <a:xfrm>
            <a:off x="5616360" y="4221000"/>
            <a:ext cx="1080" cy="187416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36" name=""/>
          <p:cNvCxnSpPr/>
          <p:nvPr/>
        </p:nvCxnSpPr>
        <p:spPr>
          <a:xfrm>
            <a:off x="8135640" y="4221000"/>
            <a:ext cx="1080" cy="187416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37" name=""/>
          <p:cNvCxnSpPr/>
          <p:nvPr/>
        </p:nvCxnSpPr>
        <p:spPr>
          <a:xfrm>
            <a:off x="5616720" y="5877000"/>
            <a:ext cx="25200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6696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>
            <a:off x="4608000" y="4221000"/>
            <a:ext cx="1080" cy="187416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sp>
        <p:nvSpPr>
          <p:cNvPr id="140" name=""/>
          <p:cNvSpPr/>
          <p:nvPr/>
        </p:nvSpPr>
        <p:spPr>
          <a:xfrm>
            <a:off x="4788000" y="558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d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/>
          <p:nvPr/>
        </p:nvCxnSpPr>
        <p:spPr>
          <a:xfrm flipH="1">
            <a:off x="4571280" y="5805360"/>
            <a:ext cx="143640" cy="14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2" name=""/>
          <p:cNvCxnSpPr/>
          <p:nvPr/>
        </p:nvCxnSpPr>
        <p:spPr>
          <a:xfrm flipH="1">
            <a:off x="5579280" y="5805360"/>
            <a:ext cx="143640" cy="14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3" name=""/>
          <p:cNvCxnSpPr/>
          <p:nvPr/>
        </p:nvCxnSpPr>
        <p:spPr>
          <a:xfrm flipH="1">
            <a:off x="8098560" y="5805360"/>
            <a:ext cx="143640" cy="14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4" name=""/>
          <p:cNvCxnSpPr/>
          <p:nvPr/>
        </p:nvCxnSpPr>
        <p:spPr>
          <a:xfrm>
            <a:off x="4642920" y="5878080"/>
            <a:ext cx="1008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50920" y="3645000"/>
                <a:ext cx="36003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ctor Array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4200" y="2851200"/>
            <a:ext cx="93528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5280" y="313848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34200" y="313848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8200" y="38592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8200" y="34988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2851200"/>
            <a:ext cx="1513080" cy="143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2492280"/>
            <a:ext cx="2087640" cy="2160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75640" y="3500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endCxn id="154" idx="1"/>
          </p:cNvCxnSpPr>
          <p:nvPr/>
        </p:nvCxnSpPr>
        <p:spPr>
          <a:xfrm>
            <a:off x="5219280" y="1916280"/>
            <a:ext cx="3477240" cy="1605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6" name=""/>
          <p:cNvCxnSpPr>
            <a:stCxn id="153" idx="2"/>
          </p:cNvCxnSpPr>
          <p:nvPr/>
        </p:nvCxnSpPr>
        <p:spPr>
          <a:xfrm>
            <a:off x="5219640" y="3573000"/>
            <a:ext cx="345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8244000" y="3355920"/>
            <a:ext cx="85680" cy="216000"/>
          </a:xfrm>
          <a:custGeom>
            <a:avLst/>
            <a:gdLst/>
            <a:ahLst/>
            <a:rect l="l" t="t" r="r" b="b"/>
            <a:pathLst>
              <a:path w="54" h="136">
                <a:moveTo>
                  <a:pt x="54" y="0"/>
                </a:moveTo>
                <a:cubicBezTo>
                  <a:pt x="35" y="11"/>
                  <a:pt x="16" y="22"/>
                  <a:pt x="8" y="45"/>
                </a:cubicBezTo>
                <a:cubicBezTo>
                  <a:pt x="0" y="68"/>
                  <a:pt x="8" y="121"/>
                  <a:pt x="8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12000" y="32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/>
          <p:nvPr/>
        </p:nvCxnSpPr>
        <p:spPr>
          <a:xfrm>
            <a:off x="6227280" y="3571920"/>
            <a:ext cx="1080" cy="21628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60" name=""/>
          <p:cNvCxnSpPr/>
          <p:nvPr/>
        </p:nvCxnSpPr>
        <p:spPr>
          <a:xfrm>
            <a:off x="8747280" y="3571920"/>
            <a:ext cx="2160" cy="21628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61" name=""/>
          <p:cNvCxnSpPr/>
          <p:nvPr/>
        </p:nvCxnSpPr>
        <p:spPr>
          <a:xfrm>
            <a:off x="6227280" y="5589720"/>
            <a:ext cx="2520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730872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5219280" y="3571920"/>
            <a:ext cx="1080" cy="21628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sp>
        <p:nvSpPr>
          <p:cNvPr id="164" name=""/>
          <p:cNvSpPr/>
          <p:nvPr/>
        </p:nvSpPr>
        <p:spPr>
          <a:xfrm>
            <a:off x="5364000" y="522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d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 flipH="1">
            <a:off x="5147640" y="5516280"/>
            <a:ext cx="143640" cy="14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6" name=""/>
          <p:cNvCxnSpPr/>
          <p:nvPr/>
        </p:nvCxnSpPr>
        <p:spPr>
          <a:xfrm flipH="1">
            <a:off x="6155640" y="5516280"/>
            <a:ext cx="143640" cy="14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7" name=""/>
          <p:cNvCxnSpPr/>
          <p:nvPr/>
        </p:nvCxnSpPr>
        <p:spPr>
          <a:xfrm flipH="1">
            <a:off x="8674920" y="5516280"/>
            <a:ext cx="143640" cy="14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8" name=""/>
          <p:cNvCxnSpPr/>
          <p:nvPr/>
        </p:nvCxnSpPr>
        <p:spPr>
          <a:xfrm>
            <a:off x="5219640" y="5589360"/>
            <a:ext cx="1008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9" name=""/>
          <p:cNvCxnSpPr/>
          <p:nvPr/>
        </p:nvCxnSpPr>
        <p:spPr>
          <a:xfrm>
            <a:off x="4427280" y="1196640"/>
            <a:ext cx="1080" cy="5661720"/>
          </a:xfrm>
          <a:prstGeom prst="straightConnector1">
            <a:avLst/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170" name=""/>
          <p:cNvCxnSpPr/>
          <p:nvPr/>
        </p:nvCxnSpPr>
        <p:spPr>
          <a:xfrm>
            <a:off x="5219280" y="1915920"/>
            <a:ext cx="1080" cy="3313800"/>
          </a:xfrm>
          <a:prstGeom prst="straightConnector1">
            <a:avLst/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171" name=""/>
          <p:cNvCxnSpPr/>
          <p:nvPr/>
        </p:nvCxnSpPr>
        <p:spPr>
          <a:xfrm flipH="1">
            <a:off x="5218920" y="3645000"/>
            <a:ext cx="3477240" cy="1605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500720" y="1125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metria Equiline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4571640" y="19162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74" name=""/>
          <p:cNvCxnSpPr/>
          <p:nvPr/>
        </p:nvCxnSpPr>
        <p:spPr>
          <a:xfrm>
            <a:off x="4572000" y="5229360"/>
            <a:ext cx="72000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75" name=""/>
          <p:cNvCxnSpPr/>
          <p:nvPr/>
        </p:nvCxnSpPr>
        <p:spPr>
          <a:xfrm>
            <a:off x="4716000" y="1844280"/>
            <a:ext cx="2520" cy="3529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464328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364000" y="5877000"/>
                <a:ext cx="2735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f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652760" y="3139920"/>
            <a:ext cx="93492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70200" y="3427560"/>
            <a:ext cx="144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28760" y="3427560"/>
            <a:ext cx="144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3120" y="414828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13120" y="37879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0200" y="3139920"/>
            <a:ext cx="1513080" cy="144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2779560"/>
            <a:ext cx="2087640" cy="2160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54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08760" y="2183400"/>
            <a:ext cx="2012760" cy="335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42" y="141"/>
                </a:moveTo>
                <a:arcTo wR="10800" hR="10800" stAng="-4842967" swAng="9752327"/>
                <a:lnTo>
                  <a:pt x="10800" y="10800"/>
                </a:lnTo>
                <a:close/>
              </a:path>
              <a:path fill="none" w="21600" h="21600">
                <a:moveTo>
                  <a:pt x="12542" y="141"/>
                </a:moveTo>
                <a:arcTo wR="10800" hR="10800" stAng="-4842967" swAng="9752327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/>
          <p:nvPr/>
        </p:nvCxnSpPr>
        <p:spPr>
          <a:xfrm>
            <a:off x="899640" y="1844280"/>
            <a:ext cx="3188520" cy="2027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33840" y="3643200"/>
            <a:ext cx="85680" cy="216000"/>
          </a:xfrm>
          <a:custGeom>
            <a:avLst/>
            <a:gdLst/>
            <a:ahLst/>
            <a:rect l="l" t="t" r="r" b="b"/>
            <a:pathLst>
              <a:path w="54" h="136">
                <a:moveTo>
                  <a:pt x="54" y="0"/>
                </a:moveTo>
                <a:cubicBezTo>
                  <a:pt x="35" y="11"/>
                  <a:pt x="16" y="22"/>
                  <a:pt x="8" y="45"/>
                </a:cubicBezTo>
                <a:cubicBezTo>
                  <a:pt x="0" y="68"/>
                  <a:pt x="8" y="121"/>
                  <a:pt x="8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364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51640" y="1964880"/>
            <a:ext cx="2011320" cy="369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18" y="107"/>
                </a:moveTo>
                <a:arcTo wR="10800" hR="10800" stAng="-4915358" swAng="10349493"/>
                <a:lnTo>
                  <a:pt x="10800" y="10800"/>
                </a:lnTo>
                <a:close/>
              </a:path>
              <a:path fill="none" w="21600" h="21600">
                <a:moveTo>
                  <a:pt x="12318" y="107"/>
                </a:moveTo>
                <a:arcTo wR="10800" hR="10800" stAng="-4915358" swAng="10349493"/>
              </a:path>
            </a:pathLst>
          </a:cu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81080" y="1125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metria Equiang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85" idx="3"/>
          </p:cNvCxnSpPr>
          <p:nvPr/>
        </p:nvCxnSpPr>
        <p:spPr>
          <a:xfrm flipV="1">
            <a:off x="1115640" y="3911400"/>
            <a:ext cx="2971080" cy="1823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3" name=""/>
          <p:cNvCxnSpPr>
            <a:stCxn id="185" idx="2"/>
          </p:cNvCxnSpPr>
          <p:nvPr/>
        </p:nvCxnSpPr>
        <p:spPr>
          <a:xfrm flipH="1">
            <a:off x="178560" y="3860280"/>
            <a:ext cx="3886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108000" y="3645000"/>
            <a:ext cx="360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>
            <a:off x="2123640" y="3860640"/>
            <a:ext cx="1080" cy="21628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96" name=""/>
          <p:cNvCxnSpPr/>
          <p:nvPr/>
        </p:nvCxnSpPr>
        <p:spPr>
          <a:xfrm>
            <a:off x="4138200" y="3860640"/>
            <a:ext cx="2520" cy="21628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197" name=""/>
          <p:cNvCxnSpPr/>
          <p:nvPr/>
        </p:nvCxnSpPr>
        <p:spPr>
          <a:xfrm>
            <a:off x="2124000" y="5876640"/>
            <a:ext cx="201528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2700360" y="5518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/>
          <p:nvPr/>
        </p:nvCxnSpPr>
        <p:spPr>
          <a:xfrm flipH="1">
            <a:off x="4066560" y="5805360"/>
            <a:ext cx="143640" cy="14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0" name=""/>
          <p:cNvCxnSpPr/>
          <p:nvPr/>
        </p:nvCxnSpPr>
        <p:spPr>
          <a:xfrm flipH="1">
            <a:off x="2050200" y="5805360"/>
            <a:ext cx="143640" cy="14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1" name=""/>
          <p:cNvCxnSpPr/>
          <p:nvPr/>
        </p:nvCxnSpPr>
        <p:spPr>
          <a:xfrm>
            <a:off x="611280" y="3860640"/>
            <a:ext cx="2160" cy="21628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202" name=""/>
          <p:cNvCxnSpPr/>
          <p:nvPr/>
        </p:nvCxnSpPr>
        <p:spPr>
          <a:xfrm>
            <a:off x="611280" y="5876640"/>
            <a:ext cx="1513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25892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71640" y="6093000"/>
                <a:ext cx="295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05" name=""/>
          <p:cNvCxnSpPr/>
          <p:nvPr/>
        </p:nvCxnSpPr>
        <p:spPr>
          <a:xfrm>
            <a:off x="2123640" y="1916280"/>
            <a:ext cx="2520" cy="19468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cxnSp>
        <p:nvCxnSpPr>
          <p:cNvPr id="206" name=""/>
          <p:cNvCxnSpPr/>
          <p:nvPr/>
        </p:nvCxnSpPr>
        <p:spPr>
          <a:xfrm>
            <a:off x="3131640" y="1915920"/>
            <a:ext cx="2520" cy="201996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</a:ln>
        </p:spPr>
      </p:cxnSp>
      <p:sp>
        <p:nvSpPr>
          <p:cNvPr id="207" name=""/>
          <p:cNvSpPr/>
          <p:nvPr/>
        </p:nvSpPr>
        <p:spPr>
          <a:xfrm>
            <a:off x="2268360" y="1773360"/>
            <a:ext cx="7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d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/>
          <p:nvPr/>
        </p:nvCxnSpPr>
        <p:spPr>
          <a:xfrm>
            <a:off x="2124000" y="2133360"/>
            <a:ext cx="1008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9" name=""/>
          <p:cNvCxnSpPr/>
          <p:nvPr/>
        </p:nvCxnSpPr>
        <p:spPr>
          <a:xfrm flipH="1">
            <a:off x="2050200" y="2060280"/>
            <a:ext cx="143640" cy="14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0" name=""/>
          <p:cNvCxnSpPr/>
          <p:nvPr/>
        </p:nvCxnSpPr>
        <p:spPr>
          <a:xfrm flipH="1">
            <a:off x="3058920" y="2060280"/>
            <a:ext cx="143280" cy="14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50:02Z</dcterms:created>
  <dc:creator>Stefano &amp; Simone</dc:creator>
  <dc:description/>
  <dc:language>en-US</dc:language>
  <cp:lastModifiedBy>Stefano &amp; Simone</cp:lastModifiedBy>
  <dcterms:modified xsi:type="dcterms:W3CDTF">2006-02-28T15:50:24Z</dcterms:modified>
  <cp:revision>3</cp:revision>
  <dc:subject/>
  <dc:title>Geometria Parallela (I gen)</dc:title>
</cp:coreProperties>
</file>